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CAC09-241A-4365-A556-054E576E0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9F1F3-1A6F-4A82-8AA0-BED32111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71E58-87D0-4073-A935-77D33DC12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F7F22-D55B-44A7-BB5A-5A529C4F2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CC0DF-E2CA-485F-850D-11BB1423F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709CE-D1D0-4860-AD38-4CAB5B229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E161C-E293-4EB4-949E-E30D61B39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B166B-009F-4101-A4B1-C33F9CF78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D48DC-6FF4-4A4A-B653-A31508BC4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2B0D5-A92A-4DC6-80C0-72675FC78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8E2B-5B74-4BCE-BFB6-AD541735B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B31DC-A5B8-49AB-9DD0-2F0549C7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0549F-9332-4FAF-AE38-00FFD2FC2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E99FC-0DAD-4F03-BD12-78FC57837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B3162-1B98-4BB0-8EEB-F2A562D60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D31F6-7CCA-44D6-8CDD-32157DFD4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C8A72-CAE4-4015-932A-12358E3A6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A70B-83E3-4871-AAC9-13363519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41B4-D56F-41EE-8B78-D46392B4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73F5-8211-449B-A0D0-C2F511B3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C3C4-07D4-4047-8CD6-528FC4D6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137A-ADAF-417E-8A1C-5B380B73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351B-FADE-4D5B-BE93-FB86C1AA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8B30-C837-4A8A-9B18-349135A5F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AF72-D1AA-4DD8-85EE-42A4715D7A9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7D96-F0C5-41A8-9C11-5B1CD472E94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37B7-77AE-4CFC-A63C-8A404ED90CAE}"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0917-515B-4CC7-8916-5203153A39C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CA0D-F54F-49E0-B012-33B6D206273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8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8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94C3-1366-4749-8163-0EBC8C48921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304920" y="-151200"/>
            <a:ext cx="6248160" cy="353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AR" sz="5000" spc="-1" strike="noStrike">
                <a:solidFill>
                  <a:srgbClr val="006633"/>
                </a:solidFill>
                <a:latin typeface="Garamond"/>
              </a:rPr>
              <a:t>ALQUILER DE ESPACIOS AREOS </a:t>
            </a:r>
            <a:r>
              <a:rPr b="0" lang="es-AR" sz="3800" spc="-1" strike="noStrike">
                <a:solidFill>
                  <a:srgbClr val="006633"/>
                </a:solidFill>
                <a:latin typeface="Garamond"/>
              </a:rPr>
              <a:t>TRATAMIENTO IMPOSITIVO</a:t>
            </a:r>
            <a:endParaRPr b="0" lang="en-US" sz="3800" spc="-1" strike="noStrike">
              <a:solidFill>
                <a:srgbClr val="006633"/>
              </a:solidFill>
              <a:latin typeface="Garamond"/>
            </a:endParaRPr>
          </a:p>
        </p:txBody>
      </p:sp>
      <p:sp>
        <p:nvSpPr>
          <p:cNvPr id="90" name="PlaceHolder 2"/>
          <p:cNvSpPr>
            <a:spLocks noGrp="1"/>
          </p:cNvSpPr>
          <p:nvPr>
            <p:ph type="subTitle"/>
          </p:nvPr>
        </p:nvSpPr>
        <p:spPr>
          <a:xfrm>
            <a:off x="539280" y="3645000"/>
            <a:ext cx="6567480" cy="1479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Jornada de Actualización en Consorcios 26/7/2011</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r. Leopoldo Gurovich</a:t>
            </a:r>
            <a:endParaRPr b="0" lang="en-US" sz="2400" spc="-1" strike="noStrike">
              <a:solidFill>
                <a:srgbClr val="000000"/>
              </a:solidFill>
              <a:latin typeface="Arial"/>
            </a:endParaRPr>
          </a:p>
        </p:txBody>
      </p:sp>
      <p:sp>
        <p:nvSpPr>
          <p:cNvPr id="91" name="3 Marcador de fecha"/>
          <p:cNvSpPr/>
          <p:nvPr/>
        </p:nvSpPr>
        <p:spPr>
          <a:xfrm>
            <a:off x="257040" y="6248520"/>
            <a:ext cx="1622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4 Marcador de número de diapositiva"/>
          <p:cNvSpPr/>
          <p:nvPr/>
        </p:nvSpPr>
        <p:spPr>
          <a:xfrm>
            <a:off x="5486400" y="6248520"/>
            <a:ext cx="1371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5 Marcador de pie de página"/>
          <p:cNvSpPr/>
          <p:nvPr/>
        </p:nvSpPr>
        <p:spPr>
          <a:xfrm>
            <a:off x="2108160" y="6248520"/>
            <a:ext cx="2997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D9E0-7F1B-4199-BD14-B4E5178DC2A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5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6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B2FB-5A17-4432-BC4D-9F921A0D5C6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4</a:t>
            </a:r>
            <a:endParaRPr b="0" lang="en-US" sz="4200" spc="-1" strike="noStrike">
              <a:solidFill>
                <a:srgbClr val="006633"/>
              </a:solidFill>
              <a:latin typeface="Garamond"/>
            </a:endParaRPr>
          </a:p>
        </p:txBody>
      </p:sp>
      <p:sp>
        <p:nvSpPr>
          <p:cNvPr id="16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consorcio aclara que lo que le interesa de fondo, es la gravabilidad en el impuesto a las ganancias.</a:t>
            </a:r>
            <a:endParaRPr b="0" lang="en-US" sz="3000" spc="-1" strike="noStrike">
              <a:solidFill>
                <a:srgbClr val="000000"/>
              </a:solidFill>
              <a:latin typeface="Arial"/>
            </a:endParaRPr>
          </a:p>
        </p:txBody>
      </p:sp>
      <p:sp>
        <p:nvSpPr>
          <p:cNvPr id="16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A8D4-98E8-457D-969A-88F36458B812}"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D68C-C4F3-4B1E-935C-F9F9CF35D76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a:t>
            </a:r>
            <a:endParaRPr b="0" lang="en-US" sz="4200" spc="-1" strike="noStrike">
              <a:solidFill>
                <a:srgbClr val="006633"/>
              </a:solidFill>
              <a:latin typeface="Garamond"/>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 consulta es vinculante respecto a la gravabilidad en el impuesto a las ganancias, no así respecto del régimen de retención de la RG (AFIP) 830/00.</a:t>
            </a:r>
            <a:endParaRPr b="0" lang="en-US" sz="3000" spc="-1" strike="noStrike">
              <a:solidFill>
                <a:srgbClr val="000000"/>
              </a:solidFill>
              <a:latin typeface="Arial"/>
            </a:endParaRPr>
          </a:p>
        </p:txBody>
      </p:sp>
      <p:sp>
        <p:nvSpPr>
          <p:cNvPr id="171"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62C1-F06A-4276-8994-E91ED5A052A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7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7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48BE-E871-4A75-8482-664DFBFA525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Menciona el dictamen 75/01 sobre una consulta simil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Incluye de este dictamen al art. 57 DR L. Ganancias, las rentas de 1ª Categoría, que “la parte de cada condómino será considerada a los efectos del impuesto como un bien inmueble distinto”</a:t>
            </a:r>
            <a:endParaRPr b="0" lang="en-US" sz="3000" spc="-1" strike="noStrike">
              <a:solidFill>
                <a:srgbClr val="000000"/>
              </a:solidFill>
              <a:latin typeface="Arial"/>
            </a:endParaRPr>
          </a:p>
        </p:txBody>
      </p:sp>
      <p:sp>
        <p:nvSpPr>
          <p:cNvPr id="17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E218-C6B9-4104-AE14-89F4284DEC2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8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8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16EF-D9DD-4345-8D7F-00E97CD4D54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8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 interpretación es que las personas físicas o jurídicas integrantes del consorcio de propietarios, resultarán contribuyentes del tributo por el eventual alquiler de espacios comunes.</a:t>
            </a:r>
            <a:endParaRPr b="0" lang="en-US" sz="3000" spc="-1" strike="noStrike">
              <a:solidFill>
                <a:srgbClr val="000000"/>
              </a:solidFill>
              <a:latin typeface="Arial"/>
            </a:endParaRPr>
          </a:p>
        </p:txBody>
      </p:sp>
      <p:sp>
        <p:nvSpPr>
          <p:cNvPr id="18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83DB-53E8-4F85-9DFB-A14698D1BD1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163A-153B-4AA4-A417-AF42217FA06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9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Se refiere a las conclusiones de otra Actuación: “…cabe considerar aquí también el mencionado principio de realidad económica, razón por la cual se interpreta que tampoco procedería la aplicación del régimen retentivo respecto de sus consorcistas”.</a:t>
            </a:r>
            <a:endParaRPr b="0" lang="en-US" sz="3000" spc="-1" strike="noStrike">
              <a:solidFill>
                <a:srgbClr val="000000"/>
              </a:solidFill>
              <a:latin typeface="Arial"/>
            </a:endParaRPr>
          </a:p>
        </p:txBody>
      </p:sp>
      <p:sp>
        <p:nvSpPr>
          <p:cNvPr id="19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72B0-78D1-4E21-BA2D-93FDA6311947}"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9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0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B587-FA51-46FE-BA51-9195FB4033A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2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Consorcio de Propietarios no es responsable de impuestos a las gananci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Cada condómino – copropietario -, es el responsa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régimen de retención de la RG 830/00 no sería de aplicación a los copropietarios.</a:t>
            </a:r>
            <a:endParaRPr b="0" lang="en-US" sz="3000" spc="-1" strike="noStrike">
              <a:solidFill>
                <a:srgbClr val="000000"/>
              </a:solidFill>
              <a:latin typeface="Arial"/>
            </a:endParaRPr>
          </a:p>
        </p:txBody>
      </p:sp>
      <p:sp>
        <p:nvSpPr>
          <p:cNvPr id="20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30F1-9831-4BFE-B793-41D8FFF2204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0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0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7272-48BB-47EB-B017-158C476D4A7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9" name=""/>
          <p:cNvSpPr txBox="1"/>
          <p:nvPr/>
        </p:nvSpPr>
        <p:spPr>
          <a:xfrm>
            <a:off x="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RESOLUCION SD.G.T.L.I.-A.F.I.P. 73/10</a:t>
            </a:r>
            <a:br>
              <a:rPr sz="2600"/>
            </a:br>
            <a:r>
              <a:rPr b="1" lang="es-ES" sz="2600" spc="-1" strike="noStrike">
                <a:solidFill>
                  <a:srgbClr val="000000"/>
                </a:solidFill>
                <a:latin typeface="Arial"/>
              </a:rPr>
              <a:t>Buenos Aires, 20 de agosto de 2010</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ES" sz="2600" spc="-1" strike="noStrike">
                <a:solidFill>
                  <a:srgbClr val="000000"/>
                </a:solidFill>
                <a:latin typeface="Arial"/>
              </a:rPr>
              <a:t>Fuente: página web A.F.I.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6C56-3F8B-4387-A988-9E4C5A2A1879}"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F995-E46A-44F7-8D67-3B46E9D4DDB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Resolución 73/10</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Impuesto a las ganancias. Rentas provenientes del alquiler del espacio ubicado en la terraza del edificio de un consorcio de propietarios a empresa de telefonía móvil. Instalación de una antena y equipos para la transmisión de ondas de telefonía móvil. Tratamiento impositivo de los condómin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06A5-13C6-4AC6-8164-63524DBAA9F2}"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1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1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F1AC-4AEF-426D-A676-F68CD0A9847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Desarrollo</a:t>
            </a:r>
            <a:endParaRPr b="0" lang="en-US" sz="4200" spc="-1" strike="noStrike">
              <a:solidFill>
                <a:srgbClr val="006633"/>
              </a:solidFill>
              <a:latin typeface="Garamond"/>
            </a:endParaRPr>
          </a:p>
        </p:txBody>
      </p:sp>
      <p:sp>
        <p:nvSpPr>
          <p:cNvPr id="21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 Se consulta si las rentas provenientes del alquiler del espacio ubicado en la terraza del edificio de un consorcio de propietarios (Ley 13.512) a una empresa de telefonía móvil a los fines de la instalación de una antena y equipos utilizados para la transmisión de ondas de telefonía móvil, se encuentran alcanzadas por el impuesto a las gananci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3903-10B4-41C4-89ED-E2D52F6F5C71}"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2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2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B5D4-095D-4023-A1A8-ECCA545DE11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a:t>
            </a:r>
            <a:endParaRPr b="0" lang="en-US" sz="4200" spc="-1" strike="noStrike">
              <a:solidFill>
                <a:srgbClr val="006633"/>
              </a:solidFill>
              <a:latin typeface="Garamond"/>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I. Al ser cada propietario dueño exclusivo de su piso o departamento y copropietario sobre el terreno y todos los espacios y cosas de uso común del edificio, resultando dicho derecho proporcional al valor del departamento o piso de su propiedad, considerada a los efectos del impuesto como un bien inmueble distint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3E12-D6FD-4CA7-8984-7A358ADC86D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9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9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296F-DE8C-479F-AA16-63556611BA1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DICTAMEN D.A.T. 18/10</a:t>
            </a:r>
            <a:endParaRPr b="0" lang="en-US" sz="4200" spc="-1" strike="noStrike">
              <a:solidFill>
                <a:srgbClr val="006633"/>
              </a:solidFill>
              <a:latin typeface="Garamond"/>
            </a:endParaRPr>
          </a:p>
        </p:txBody>
      </p:sp>
      <p:sp>
        <p:nvSpPr>
          <p:cNvPr id="9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20/4/201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Dirección General Impositiva. Dirección de Asesoría Técnica. Impuesto a las ganancias. Consorcio de propietarios. </a:t>
            </a:r>
            <a:r>
              <a:rPr b="1" lang="es-AR" sz="3000" spc="-1" strike="noStrike" u="sng">
                <a:solidFill>
                  <a:srgbClr val="000000"/>
                </a:solidFill>
                <a:uFillTx/>
                <a:latin typeface="Arial"/>
              </a:rPr>
              <a:t>Alquiler en terraza del edificio</a:t>
            </a:r>
            <a:r>
              <a:rPr b="1" lang="es-AR" sz="3000" spc="-1" strike="noStrike">
                <a:solidFill>
                  <a:srgbClr val="000000"/>
                </a:solidFill>
                <a:latin typeface="Arial"/>
              </a:rPr>
              <a:t>. Tratamiento impositiv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Arial"/>
              </a:rPr>
              <a:t>Fuente: web A.F.I.P.</a:t>
            </a:r>
            <a:endParaRPr b="0" lang="en-US" sz="1900" spc="-1" strike="noStrike">
              <a:solidFill>
                <a:srgbClr val="000000"/>
              </a:solidFill>
              <a:latin typeface="Arial"/>
            </a:endParaRPr>
          </a:p>
        </p:txBody>
      </p:sp>
      <p:sp>
        <p:nvSpPr>
          <p:cNvPr id="9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F827-3EB8-4D90-97AF-2A9FDF852CA9}"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2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2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686A-EE7D-4042-B3F8-4EAE2710BAF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 (Cont.)</a:t>
            </a:r>
            <a:endParaRPr b="0" lang="en-US" sz="4200" spc="-1" strike="noStrike">
              <a:solidFill>
                <a:srgbClr val="006633"/>
              </a:solidFill>
              <a:latin typeface="Garamond"/>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art. 57 del decreto reglamentario de la ley del gravamen, prevé que a los fines de considerar las rentas provenientes de la primera categoría –art. 41, inc. a) de la ley–, la parte de cada condómino –personas físicas y sucesiones indivisas– ser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B203-78D6-4480-AAA4-7CD786D8DB0F}"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3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3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8B30-B2BB-46DE-B19A-3322F050FA5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 (Cont.)</a:t>
            </a:r>
            <a:endParaRPr b="0" lang="en-US" sz="4200" spc="-1" strike="noStrike">
              <a:solidFill>
                <a:srgbClr val="006633"/>
              </a:solidFill>
              <a:latin typeface="Garamond"/>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decir que serán los condóminos, considerados individualmente, quienes deberán declarar las rentas derivadas de la explotación de los espacios comunes pertenecientes al consorcio, en la proporción que les correspond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EE06-80B0-4C9C-A3C2-609B362ECC0E}"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3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3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AFA4-4891-4FE7-9550-97B279E0BF2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23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II. En cuanto a la argumentación de que las rentas provenientes de la locación se utilizan en su totalidad para solventar los gastos comunes del edificio y que en ningún caso se distribuyen entre los consorcistas, es de señalar que lo que opera en el caso, en función del principio de la realidad económ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53B1-EEA8-43C8-A0A8-E1FCA46E30F7}"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4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4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0A3F-2F6E-4D86-A867-06790CEFD23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3 (Cont.)</a:t>
            </a:r>
            <a:endParaRPr b="0" lang="en-US" sz="4200" spc="-1" strike="noStrike">
              <a:solidFill>
                <a:srgbClr val="006633"/>
              </a:solidFill>
              <a:latin typeface="Garamond"/>
            </a:endParaRPr>
          </a:p>
        </p:txBody>
      </p:sp>
      <p:sp>
        <p:nvSpPr>
          <p:cNvPr id="24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 una distribución indirecta del beneficio, atento que ello redundará en un menor desembolso por parte de los consorcistas en el pago de sus expensas, al volcar ese ingreso al flujo de ingresos del consorcio, resultando el ahorro del consorcista equivalente al ingreso propor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E698-130E-480A-A560-C9FBC6EA83C0}"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4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4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F379-01C7-480A-9A4A-0BFFC8AC845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3 (Cont.)</a:t>
            </a:r>
            <a:endParaRPr b="0" lang="en-US" sz="4200" spc="-1" strike="noStrike">
              <a:solidFill>
                <a:srgbClr val="006633"/>
              </a:solidFill>
              <a:latin typeface="Garamond"/>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que le correspondería de haber sido distribuida la ganancia obtenida, por lo que no podría negarse la existencia de dicha gana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3162-E920-4B5C-B75B-880DB15E0CC0}"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5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644C-FA1F-4B85-BC62-3E5E07F461E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V</a:t>
            </a:r>
            <a:endParaRPr b="0" lang="en-US" sz="4200" spc="-1" strike="noStrike">
              <a:solidFill>
                <a:srgbClr val="006633"/>
              </a:solidFill>
              <a:latin typeface="Garamond"/>
            </a:endParaRPr>
          </a:p>
        </p:txBody>
      </p:sp>
      <p:sp>
        <p:nvSpPr>
          <p:cNvPr id="254"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V. El hecho que el Anexo IV de la Res. Gral. A.F.I.P. 830/00 y sus modificaciones, no considere a los consorcios de propiedad horizontal regidos por la Ley 13.512 como sujetos pasibles de la retención, no implica reconocer una exención tácita a la renta originada en la actividad de alquileres de espacios comunes de los consorcios de propiedad horizontal regidos por la Ley 13.5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8F96-9C94-4701-951B-63A8894B1205}"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5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5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1AA0-B759-4939-9009-5C59EC77EF7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Ley N° 12.981 Estatuto de Encargados de Casas de Renta y Horizont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Artículo 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0256-64F7-447B-8A13-3D48FA2FDB0A}"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6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6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F83B-E384-4355-B045-DA2BDA3E03E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Ley 12.981 Estatuto</a:t>
            </a:r>
            <a:endParaRPr b="0" lang="en-US" sz="4200" spc="-1" strike="noStrike">
              <a:solidFill>
                <a:srgbClr val="006633"/>
              </a:solidFill>
              <a:latin typeface="Garamond"/>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rt. 6°: </a:t>
            </a:r>
            <a:r>
              <a:rPr b="0" lang="es-MX" sz="3000" spc="-1" strike="noStrike">
                <a:solidFill>
                  <a:srgbClr val="000000"/>
                </a:solidFill>
                <a:latin typeface="Arial"/>
              </a:rPr>
              <a:t>Los empleados y obreros de casas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de renta tienen derecho a la estabilidad en el empleo, siempre que tengan una antigüedad mayor de 60 días en el mism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E723-D3DF-4B07-83D1-AEA4FD0340D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6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6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A49E-53A8-46A5-A501-CD6DEC21E9E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ones</a:t>
            </a:r>
            <a:endParaRPr b="0" lang="en-US" sz="4200" spc="-1" strike="noStrike">
              <a:solidFill>
                <a:srgbClr val="006633"/>
              </a:solidFill>
              <a:latin typeface="Garamond"/>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 el empleador… prescindiese de los servicio del empleado u obrero, sin las causas determinadas en el artículo 5º deberá abonar en concepto de indemnización lo sigui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9DC2-D2AA-4225-9099-AD95C21A0C5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7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7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9FBE-8C64-4402-9656-D1E2B528C94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ones</a:t>
            </a:r>
            <a:endParaRPr b="0" lang="en-US" sz="4200" spc="-1" strike="noStrike">
              <a:solidFill>
                <a:srgbClr val="006633"/>
              </a:solidFill>
              <a:latin typeface="Garamond"/>
            </a:endParaRPr>
          </a:p>
        </p:txBody>
      </p:sp>
      <p:sp>
        <p:nvSpPr>
          <p:cNvPr id="27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meses de sueldo en concepto de preavi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1 mes de sueldo por cada año o fracción de antigüedad en el emple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4909-8DF7-4A61-817C-5FE74738E26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0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0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1161-BCE8-4100-A6DB-1C8C47F9E80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a:t>
            </a:r>
            <a:endParaRPr b="0" lang="en-US" sz="4200" spc="-1" strike="noStrike">
              <a:solidFill>
                <a:srgbClr val="006633"/>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l ser cada propietario dueño exclusivo de su piso o departamento y copropietario sobre el terreno y todos los espacios y cosas de uso común del edificio, resultando dicho derecho proporcional al valor del departamento o piso de su propiedad,</a:t>
            </a:r>
            <a:endParaRPr b="0" lang="en-US" sz="3000" spc="-1" strike="noStrike">
              <a:solidFill>
                <a:srgbClr val="000000"/>
              </a:solidFill>
              <a:latin typeface="Arial"/>
            </a:endParaRPr>
          </a:p>
        </p:txBody>
      </p:sp>
      <p:sp>
        <p:nvSpPr>
          <p:cNvPr id="10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53BB-301A-4A19-854E-B38DC305BB7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7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7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9A39-E196-4EE4-A1A5-1233FA8C5A2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Fallo Cámara Laboral Cálculo Indemnización por antigüedad</a:t>
            </a:r>
            <a:endParaRPr b="0" lang="en-US" sz="4200" spc="-1" strike="noStrike">
              <a:solidFill>
                <a:srgbClr val="006633"/>
              </a:solidFill>
              <a:latin typeface="Garamond"/>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Sumario. Encargo de casa de renta. Derechos y deberes de las partes. Despido. Cálculo de la indemnización a percibi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 los efectos de determinar cuál el la norma aplicable (art. 245, LCT o art. 6, último párrafo de la L. 12981 – Estatuto de empleados y obreros de casas de r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7630-C7E4-4898-AD2C-629166BD985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8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8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DD4D-2A1E-41FE-A547-0452128A44C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Para el cálculo de la indemnización por despido en los caso de encargados edificios de propiedad horizontal, el concepto de “unidad de comparación” proporciona la solución del conflicto de concurrencia de nor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ED97-880C-428E-93C6-836B53ACD657}"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BD5F-0766-4627-8FBE-AA794288041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8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Dicha unidad es la institución “extinción del contrato de trabajo” globalmente, que involucra simultáneamente al período de inestabilidad o prueba, al preaviso y a su indemnización sustitutiva y a la indemnización por despi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4F6F-30E7-4181-AA4B-C9109AE12B2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C851-32A5-42D3-9CF8-BAECE47CCB7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9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n lo que aquí interesa, el propio estatuto hace inseparable la secuencia "preaviso e indemnización por despido”, designándolos en una única y común expresión como indemniza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50CB-3667-45E8-8806-1C492AA8214C}"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9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9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8C8E-738C-4A12-88FD-1E662BFD70D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mientras que por otro lado, la protección que en términos relativos la LCT brinda con mayor intensidad a los trabajadores menos antiguos mediante la indemnización mínima del último párrafo de su artículo 245, en el estatuto queda excedida con el preaviso de  tres me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7D3A-5ADD-4219-9BA6-999BC029E349}"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2F1F-E0F4-4043-A27F-F2957F1D4B7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30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te enlaza pues orgánicamente con la indemnización por despido establecida a razón de un mes de sueldo por año de servicios cualquier fracción menor (incluso un día), excedente de los sesenta días, siendo el estatuto, en los términos de los artículos 8 y 9, LCT, la “norma más favorable” y que debe ser aplicada en el ca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5A75-0D7C-47DB-B392-9502AAC97EC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0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0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D440-D715-4315-A765-8196A29941F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Autos  y Fuente</a:t>
            </a:r>
            <a:endParaRPr b="0" lang="en-US" sz="4200" spc="-1" strike="noStrike">
              <a:solidFill>
                <a:srgbClr val="006633"/>
              </a:solidFill>
              <a:latin typeface="Garamond"/>
            </a:endParaRPr>
          </a:p>
        </p:txBody>
      </p:sp>
      <p:sp>
        <p:nvSpPr>
          <p:cNvPr id="30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RÉVALO, Lázaro Ezequiel c/ Consorciode3 Propietarios del Edificio de Ángel Gallardo 445-CNTRAB. Sala VIII – 23/12/2003. BD 3-T 045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RREPAR, Trabajo y Previsión Social – III – 311.002.002. Act. N°784: 5/0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80CD-0EEE-470F-9894-7A9F6F7254D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383D-F0A0-47DE-9866-38B2A5F10B7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RG (AFIP) 3067</a:t>
            </a: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Factura Electró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CDC8-2671-4E58-A5BF-FA0CBDAD169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1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1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F469-3504-4C24-81FA-648FFE575F1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ADMINISTRADOR-RG 3067</a:t>
            </a:r>
            <a:endParaRPr b="0" lang="en-US" sz="4200" spc="-1" strike="noStrike">
              <a:solidFill>
                <a:srgbClr val="006633"/>
              </a:solidFill>
              <a:latin typeface="Garamond"/>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Monotributistas categorías H e 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Factura electrónica desde 1/5/201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Resto de las categorías  es volunt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EBAD-8CE9-443A-96C2-900D497CCC4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2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2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4C93-06C1-4F97-ABF6-8C23133A797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r>
              <a:rPr b="0" lang="es-AR" sz="3800" spc="-1" strike="noStrike">
                <a:solidFill>
                  <a:srgbClr val="006633"/>
                </a:solidFill>
                <a:latin typeface="Garamond"/>
              </a:rPr>
              <a:t>¡MUCHAS GRACIAS¡</a:t>
            </a:r>
            <a:br>
              <a:rPr sz="3800"/>
            </a:br>
            <a:br>
              <a:rPr sz="3800"/>
            </a:br>
            <a:br>
              <a:rPr sz="3800"/>
            </a:br>
            <a:br>
              <a:rPr sz="3800"/>
            </a:br>
            <a:br>
              <a:rPr sz="3800"/>
            </a:br>
            <a:br>
              <a:rPr sz="3800"/>
            </a:br>
            <a:endParaRPr b="0" lang="en-US" sz="3800" spc="-1" strike="noStrike">
              <a:solidFill>
                <a:srgbClr val="006633"/>
              </a:solidFill>
              <a:latin typeface="Garamond"/>
            </a:endParaRPr>
          </a:p>
        </p:txBody>
      </p:sp>
      <p:sp>
        <p:nvSpPr>
          <p:cNvPr id="324" name="PlaceHolder 2"/>
          <p:cNvSpPr>
            <a:spLocks noGrp="1"/>
          </p:cNvSpPr>
          <p:nvPr>
            <p:ph/>
          </p:nvPr>
        </p:nvSpPr>
        <p:spPr>
          <a:xfrm>
            <a:off x="519120" y="1628640"/>
            <a:ext cx="822960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297A-C6F1-455B-BB7A-1BEF2E311B21}"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43DF-A206-4C1A-A937-CE45429BCE9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2</a:t>
            </a:r>
            <a:endParaRPr b="0" lang="en-US" sz="4200" spc="-1" strike="noStrike">
              <a:solidFill>
                <a:srgbClr val="006633"/>
              </a:solidFill>
              <a:latin typeface="Garamond"/>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art.57 del DR de la ley del gravamen, prevé que a los fines de considerar las rentas provenientes de la primera categoría-art. 41 inc. a) de la ley- la parte de cada condómino –personas físicas y sucesiones indivisas, será considerada a los efectos del impuesto como un bien inmueble distinto. </a:t>
            </a:r>
            <a:endParaRPr b="0" lang="en-US" sz="3000" spc="-1" strike="noStrike">
              <a:solidFill>
                <a:srgbClr val="000000"/>
              </a:solidFill>
              <a:latin typeface="Arial"/>
            </a:endParaRPr>
          </a:p>
        </p:txBody>
      </p:sp>
      <p:sp>
        <p:nvSpPr>
          <p:cNvPr id="11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6940-29BE-4E0C-B9B6-786C1EFBACAC}"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1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2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6600-8DD4-4F10-97E8-B9B5885AC72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3</a:t>
            </a: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 decir los condóminos –personas físicas y sucesiones indivisas – serán considerados a los efectos del impuesto como un bien inmueble distinto. </a:t>
            </a:r>
            <a:endParaRPr b="0" lang="en-US" sz="3000" spc="-1" strike="noStrike">
              <a:solidFill>
                <a:srgbClr val="000000"/>
              </a:solidFill>
              <a:latin typeface="Arial"/>
            </a:endParaRPr>
          </a:p>
        </p:txBody>
      </p:sp>
      <p:sp>
        <p:nvSpPr>
          <p:cNvPr id="12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0268-1A6E-4507-990E-6255AB7C4F33}" type="datetime">
              <a:rPr b="0" lang="es-ES" sz="1400" spc="-1" strike="noStrike">
                <a:solidFill>
                  <a:srgbClr val="000000"/>
                </a:solidFill>
                <a:latin typeface="Times New Roman"/>
              </a:rPr>
              <a:t>29/07/26</a:t>
            </a:fld>
            <a:endParaRPr b="0" lang="en-US" sz="1400" spc="-1" strike="noStrike">
              <a:solidFill>
                <a:srgbClr val="000000"/>
              </a:solidFill>
              <a:latin typeface="Arial"/>
            </a:endParaRPr>
          </a:p>
        </p:txBody>
      </p:sp>
      <p:sp>
        <p:nvSpPr>
          <p:cNvPr id="12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JORNADA DE ACTUALIZACIÓN CPCECABA 29-3-11</a:t>
            </a:r>
            <a:endParaRPr b="0" lang="en-US" sz="1400" spc="-1" strike="noStrike">
              <a:solidFill>
                <a:srgbClr val="000000"/>
              </a:solidFill>
              <a:latin typeface="Arial"/>
            </a:endParaRPr>
          </a:p>
        </p:txBody>
      </p:sp>
      <p:sp>
        <p:nvSpPr>
          <p:cNvPr id="12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6452-1738-4AB6-A18B-48833BA061F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2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2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1539-0407-4706-83B4-0AE18733966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4</a:t>
            </a:r>
            <a:endParaRPr b="0" lang="en-US" sz="4200" spc="-1" strike="noStrike">
              <a:solidFill>
                <a:srgbClr val="006633"/>
              </a:solidFill>
              <a:latin typeface="Garamond"/>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 decir que serán los condóminos, considerados individualmente, quiénes deberán declarar las rentas derivadas de la  explotación de los espacios comunes pertenecientes al consorcio, en la proporción que les corresponda.</a:t>
            </a:r>
            <a:endParaRPr b="0" lang="en-US" sz="3000" spc="-1" strike="noStrike">
              <a:solidFill>
                <a:srgbClr val="000000"/>
              </a:solidFill>
              <a:latin typeface="Arial"/>
            </a:endParaRPr>
          </a:p>
        </p:txBody>
      </p:sp>
      <p:sp>
        <p:nvSpPr>
          <p:cNvPr id="131"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696C-8CDC-4A20-A22C-0A5BEBE5B2A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3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3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0B85-77BB-4D59-8847-65B170B9821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Resumido)</a:t>
            </a:r>
            <a:endParaRPr b="0" lang="en-US" sz="4200" spc="-1" strike="noStrike">
              <a:solidFill>
                <a:srgbClr val="006633"/>
              </a:solidFill>
              <a:latin typeface="Garamond"/>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s actuaciones tienen su origen la presentación efectuada por un consorcio de propietarios en los términos de la RG (AFIP) 1.948/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Se consulta si las rentas provenientes del alquiler del espacio ubicado en la terraza del edificio  a la firma Telefónica XX para la instalación de una antena y equipos </a:t>
            </a:r>
            <a:endParaRPr b="0" lang="en-US" sz="3000" spc="-1" strike="noStrike">
              <a:solidFill>
                <a:srgbClr val="000000"/>
              </a:solidFill>
              <a:latin typeface="Arial"/>
            </a:endParaRPr>
          </a:p>
        </p:txBody>
      </p:sp>
      <p:sp>
        <p:nvSpPr>
          <p:cNvPr id="13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3127-57C1-4A8D-BAAE-30D2B90E5889}"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5AC3-A990-4B27-B45F-F80CEF16E41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2</a:t>
            </a:r>
            <a:endParaRPr b="0" lang="en-US" sz="4200" spc="-1" strike="noStrike">
              <a:solidFill>
                <a:srgbClr val="006633"/>
              </a:solidFill>
              <a:latin typeface="Garamond"/>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utilizados para la transmisión de ondas de telefónica móvil, se encuentran alcanzado por el impuesto a las ganancias, pero no así el consorcio de Propietarios en cuando a presentar DDJJ y el impuesto resultante.</a:t>
            </a:r>
            <a:endParaRPr b="0" lang="en-US" sz="3000" spc="-1" strike="noStrike">
              <a:solidFill>
                <a:srgbClr val="000000"/>
              </a:solidFill>
              <a:latin typeface="Arial"/>
            </a:endParaRPr>
          </a:p>
        </p:txBody>
      </p:sp>
      <p:sp>
        <p:nvSpPr>
          <p:cNvPr id="14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BC36-BD42-4909-9EB6-70CF16F25F6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5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899C-D3D5-4168-ABDB-8430D578FD5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3</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Consulta secundaria, si el régimen de retención contiene una exención tácita, o solo se refiere a la aplicabilidad del régimen de retenciones, con lo cual la empresa locataria queda libre de efectuarlas, pero no así el consorcio de Propietarios en cuanto a presentar DDJJ y abonar el impuesto resultante. </a:t>
            </a:r>
            <a:endParaRPr b="0" lang="en-US" sz="3000" spc="-1" strike="noStrike">
              <a:solidFill>
                <a:srgbClr val="000000"/>
              </a:solidFill>
              <a:latin typeface="Arial"/>
            </a:endParaRPr>
          </a:p>
        </p:txBody>
      </p:sp>
      <p:sp>
        <p:nvSpPr>
          <p:cNvPr id="15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0:52:29Z</dcterms:created>
  <dc:creator>Leopoldo Gurovich</dc:creator>
  <dc:description/>
  <dc:language>en-US</dc:language>
  <cp:lastModifiedBy>Your User Name</cp:lastModifiedBy>
  <dcterms:modified xsi:type="dcterms:W3CDTF">2011-07-26T00:53:57Z</dcterms:modified>
  <cp:revision>12</cp:revision>
  <dc:subject/>
  <dc:title>ALQUILER DE ESPACIOS AREOS TRATAMIENTO IMPOSITIVO</dc:title>
</cp:coreProperties>
</file>